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chimes.wav" ContentType="audio/x-wav"/>
  <Override PartName="/ppt/media/image9.wmf" ContentType="image/x-wmf"/>
  <Override PartName="/ppt/media/image8.jpeg" ContentType="image/jpeg"/>
  <Override PartName="/ppt/media/image5.png" ContentType="image/png"/>
  <Override PartName="/ppt/media/image10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25F9-DB50-40AF-95AF-E85FD784C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46C8-E8D1-4EFD-A3D9-86082DE95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91122-F913-4750-AD59-D9A5C6F0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170D27-FE08-4FBE-BF83-02B3D7B7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7F05C-B0D5-4B35-89BB-6FE75C5E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FBDAC7-1FD3-4E2F-B644-0C1400440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A6B5-5800-4F0F-8B40-E20A4914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72104-724D-4608-B125-7D9077A36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9E18-B2AE-4586-8994-67F6C135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043312-BC22-4574-9702-1EA29492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BD956-76D5-46B9-A9E5-DAC2FA172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EBBC-396C-4B8F-9ED8-44D6E80CA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48BC-6764-409F-8F5A-0BCDF421F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75D4-771F-440B-AC0B-4EFBC26C7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664C-A026-4099-A67A-6911B27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B94F1-20C2-45C4-AF37-F94D54AF9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9E3A2-BB2A-4A46-B8B7-D524281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F663-2C4E-4FE8-BCBA-97D7F9B4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5426-4DC0-44A0-ADA3-11D98C47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77B3-EB5D-450F-B03E-38C06DA6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266D-04B8-49C3-AE3E-397421B1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1249D-1E66-4CE1-A3C2-107389E74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CEEC-7FDE-4526-9391-0D9FB405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C6AA-D02B-439C-A7E5-0CF1396C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A0C1-C8DF-4C99-88EF-8C675F43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9019-0A03-4613-B988-A7AC57031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C337E-ABD5-42F9-A3F9-AFE7AEE23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22C72-3CDD-4B9D-81A0-F4C3E8DF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FDCB2-3ADB-4D42-978A-569ADCB9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B36C82-A663-4DBD-B629-2571BC8F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CC0898-7CEE-400A-91E3-C4A092FF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210-067E-41FF-883E-2BBDED4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7C1FA-7AE1-49D8-AA6F-29373ABDC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295E-AB6C-4086-8F5C-06B80A1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68403-BF05-43B4-A170-E99DE91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E8199-1F9A-460D-9AAE-427CF1DB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548B4-F302-4C9E-A279-6AF56F75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16039-0B81-43B8-88EB-6B0C07D8F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CB3B5-3BD8-4556-B6E7-883D20DAB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1B56E-ACD7-4DDF-8578-90D12A0D2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3A64E-9252-437E-8739-CCDB4E27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F2495-BDAE-4DEF-9569-76A4F7AF0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98A9-D2F6-4EBD-AAF8-76CC2DE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C1B27-9F5C-4EE4-8544-FE7AF77C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C1EB7-537F-4019-B320-D46587A0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EF89C-9627-43C6-AA36-672799ACD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3FF7B-0684-4064-8D92-9D8D99CB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E6CB8-DBEF-4A44-99A3-83A2C155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101FB-41C7-4ADF-95E4-CB24EF78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6D24F-8D8F-4490-93D8-3B69FB3A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17F62-2389-42DC-B72F-F24A98BF2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B07D9-0011-453D-96ED-DF17032D0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FE937-78D4-476F-91C2-93A42877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7CE0-9CFF-4289-B2D8-50CD4F7B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7B6A-0193-4606-9B11-4C18E51F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2E3921-57E6-4B5A-B758-E9579B81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EA961-B1AE-42E4-9189-530D461DE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FC49E-3CC1-4513-B49A-38F033C0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0C43-77AC-429B-806F-49A8E4C0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9ECABA-DFEC-4D68-AC52-2225129D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77A00-AB95-4F96-AF63-D13C8495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BF236-0CB0-41CA-BD17-8FABB94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F4A924-0978-4EC5-B664-28D865D0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D263DA-F628-49EE-A9AF-8BB93033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1F8-6DCD-46BF-BDF0-9C58DD4D0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CAD41-526E-47C5-8624-DF7C7FD1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794CE-EE6B-4BAE-A449-105DB6A9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031806-1EDC-4BF6-969D-43AB964D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911CFA-DBD8-4DD7-8BAF-DFEB49BDF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D8171-334D-4D34-BC9E-2AE51F2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13225-7150-4AAF-8F09-A9C02B35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D82C35-F50C-4016-B27D-F9823116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3EF30-DF2A-4161-BFA7-D36B671F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48B5F-8DDB-4F8F-A748-A5B9FBC3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65D7BA-5539-4EB4-8A01-83937567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B43-69D0-4963-8687-F426AA2DA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02D42-33D5-46EB-9246-5407BEB7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B0FCB-0374-4D83-BEA5-997129367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83F9A-5E76-460B-AE84-420ACAA1B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C3B93-F105-4C6F-A537-0C6DAE421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551BD-87E6-4EDA-8C03-2ED6B411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76FFF-38D8-43A5-B0BD-1BAE94BB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9FD22D-D87F-4913-BD52-DAB6556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EA2438-9027-4133-B39C-796AB440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353F6D-E44A-464C-9E76-28C81AEE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B7792-0E44-4563-A0D9-317543AA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6338-1359-4BFD-9420-E8E260C3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9452E-0063-4002-8B94-194732B7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068F-02B2-476A-8E25-1FE5B2D2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25695-7325-40C3-A69B-ED730E16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4D61D-577E-417E-86D2-5C9CAE82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309AA-A7F5-4085-965A-D6EC2D3CF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59209-EF18-4E75-B2A8-A31AE57D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AFE6D-CE8B-4D53-8917-ABF97DD92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4A169A-B869-41B2-96B8-F1E448C66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449DA-2F46-4044-A877-85D0FC6F6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D862B-C112-4B0B-AA9A-F4E9EB68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9EC8-79AA-475D-B5A6-B8311DFF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3250800" y="228240"/>
            <a:ext cx="853452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C3B6F-FFF6-4C5E-8C2A-C5122FB4B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A6C98-4129-4605-9B9A-161C9CC9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CC853-BA2F-419D-89F1-67CFD15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9E692-F1C0-42DE-A780-8277C04A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50800" y="3948480"/>
            <a:ext cx="85345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B1CE20-31EC-4674-9D11-6CB8E693D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7624440" y="160020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25080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7624440" y="3948480"/>
            <a:ext cx="4164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86DAB9-BF28-473D-B224-9FF1FCD3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1365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9021960" y="160020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325080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61365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9021960" y="3948480"/>
            <a:ext cx="2747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DDB47-07CD-42B5-A6B5-2058E7924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43A25-1FB4-4094-9E78-D8337273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CA8C6B-071E-49B1-AABF-799B9E7CB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28BF3-CAB9-4F11-9562-A73E93451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7A28B-ABE0-4063-8951-FF365F7E49F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组合 73729"/>
          <p:cNvGrpSpPr/>
          <p:nvPr/>
        </p:nvGrpSpPr>
        <p:grpSpPr>
          <a:xfrm>
            <a:off x="1428480" y="304920"/>
            <a:ext cx="10153440" cy="1106280"/>
            <a:chOff x="1428480" y="304920"/>
            <a:chExt cx="10153440" cy="1106280"/>
          </a:xfrm>
        </p:grpSpPr>
        <p:sp>
          <p:nvSpPr>
            <p:cNvPr id="45" name="椭圆 73730"/>
            <p:cNvSpPr/>
            <p:nvPr/>
          </p:nvSpPr>
          <p:spPr>
            <a:xfrm flipH="1">
              <a:off x="6490800" y="304920"/>
              <a:ext cx="14727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椭圆 73731"/>
            <p:cNvSpPr/>
            <p:nvPr/>
          </p:nvSpPr>
          <p:spPr>
            <a:xfrm flipH="1">
              <a:off x="10110960" y="304920"/>
              <a:ext cx="147096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椭圆 73732"/>
            <p:cNvSpPr/>
            <p:nvPr/>
          </p:nvSpPr>
          <p:spPr>
            <a:xfrm flipH="1">
              <a:off x="1428120" y="306360"/>
              <a:ext cx="14706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椭圆 73733"/>
            <p:cNvSpPr/>
            <p:nvPr/>
          </p:nvSpPr>
          <p:spPr>
            <a:xfrm flipH="1">
              <a:off x="843228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椭圆 73734"/>
            <p:cNvSpPr/>
            <p:nvPr/>
          </p:nvSpPr>
          <p:spPr>
            <a:xfrm flipH="1">
              <a:off x="3144960" y="304920"/>
              <a:ext cx="147096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FAEE4-40E4-4BC7-A6FA-FD8DCB31515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77825"/>
          <p:cNvGrpSpPr/>
          <p:nvPr/>
        </p:nvGrpSpPr>
        <p:grpSpPr>
          <a:xfrm>
            <a:off x="-35640" y="-188280"/>
            <a:ext cx="3655440" cy="7044840"/>
            <a:chOff x="-35640" y="-188280"/>
            <a:chExt cx="3655440" cy="7044840"/>
          </a:xfrm>
        </p:grpSpPr>
        <p:sp>
          <p:nvSpPr>
            <p:cNvPr id="92" name="任意多边形 77826"/>
            <p:cNvSpPr/>
            <p:nvPr/>
          </p:nvSpPr>
          <p:spPr>
            <a:xfrm>
              <a:off x="-11160" y="5178600"/>
              <a:ext cx="998640" cy="127296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77827"/>
            <p:cNvGrpSpPr/>
            <p:nvPr/>
          </p:nvGrpSpPr>
          <p:grpSpPr>
            <a:xfrm>
              <a:off x="131760" y="3932640"/>
              <a:ext cx="1109160" cy="735840"/>
              <a:chOff x="131760" y="3932640"/>
              <a:chExt cx="1109160" cy="735840"/>
            </a:xfrm>
          </p:grpSpPr>
          <p:sp>
            <p:nvSpPr>
              <p:cNvPr id="94" name="任意多边形 77828"/>
              <p:cNvSpPr/>
              <p:nvPr/>
            </p:nvSpPr>
            <p:spPr>
              <a:xfrm flipH="1" rot="14965200">
                <a:off x="222840" y="3924720"/>
                <a:ext cx="227160" cy="35208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352080"/>
                  <a:gd name="textAreaBottom" fmla="*/ 352440 h 352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任意多边形 77829"/>
              <p:cNvSpPr/>
              <p:nvPr/>
            </p:nvSpPr>
            <p:spPr>
              <a:xfrm flipH="1" rot="14965200">
                <a:off x="414000" y="4288680"/>
                <a:ext cx="388440" cy="29268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92680"/>
                  <a:gd name="textAreaBottom" fmla="*/ 293040 h 2926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任意多边形 77830"/>
              <p:cNvSpPr/>
              <p:nvPr/>
            </p:nvSpPr>
            <p:spPr>
              <a:xfrm flipH="1" rot="14965200">
                <a:off x="896040" y="4102560"/>
                <a:ext cx="406080" cy="14904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任意多边形 77831"/>
            <p:cNvSpPr/>
            <p:nvPr/>
          </p:nvSpPr>
          <p:spPr>
            <a:xfrm>
              <a:off x="189720" y="2755800"/>
              <a:ext cx="1502640" cy="1219320"/>
            </a:xfrm>
            <a:custGeom>
              <a:avLst/>
              <a:gdLst>
                <a:gd name="textAreaLeft" fmla="*/ 0 w 1502640"/>
                <a:gd name="textAreaRight" fmla="*/ 1503000 w 150264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组合 77832"/>
            <p:cNvGrpSpPr/>
            <p:nvPr/>
          </p:nvGrpSpPr>
          <p:grpSpPr>
            <a:xfrm>
              <a:off x="8640" y="2537640"/>
              <a:ext cx="3611160" cy="3250800"/>
              <a:chOff x="8640" y="2537640"/>
              <a:chExt cx="3611160" cy="3250800"/>
            </a:xfrm>
          </p:grpSpPr>
          <p:sp>
            <p:nvSpPr>
              <p:cNvPr id="99" name="任意多边形 77833"/>
              <p:cNvSpPr/>
              <p:nvPr/>
            </p:nvSpPr>
            <p:spPr>
              <a:xfrm flipH="1" rot="789600">
                <a:off x="478800" y="2672280"/>
                <a:ext cx="1300320" cy="1005120"/>
              </a:xfrm>
              <a:custGeom>
                <a:avLst/>
                <a:gdLst>
                  <a:gd name="textAreaLeft" fmla="*/ 360 w 1300320"/>
                  <a:gd name="textAreaRight" fmla="*/ 1301040 w 130032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任意多边形 77834"/>
              <p:cNvSpPr/>
              <p:nvPr/>
            </p:nvSpPr>
            <p:spPr>
              <a:xfrm flipH="1" rot="789600">
                <a:off x="110520" y="2801520"/>
                <a:ext cx="1088280" cy="1021680"/>
              </a:xfrm>
              <a:custGeom>
                <a:avLst/>
                <a:gdLst>
                  <a:gd name="textAreaLeft" fmla="*/ -360 w 1088280"/>
                  <a:gd name="textAreaRight" fmla="*/ 1088280 w 108828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任意多边形 77835"/>
              <p:cNvSpPr/>
              <p:nvPr/>
            </p:nvSpPr>
            <p:spPr>
              <a:xfrm flipH="1" rot="789600">
                <a:off x="447840" y="3011400"/>
                <a:ext cx="386280" cy="516960"/>
              </a:xfrm>
              <a:custGeom>
                <a:avLst/>
                <a:gdLst>
                  <a:gd name="textAreaLeft" fmla="*/ -360 w 386280"/>
                  <a:gd name="textAreaRight" fmla="*/ 386280 w 38628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任意多边形 77836"/>
              <p:cNvSpPr/>
              <p:nvPr/>
            </p:nvSpPr>
            <p:spPr>
              <a:xfrm flipH="1" rot="789600">
                <a:off x="1170720" y="3775680"/>
                <a:ext cx="353160" cy="307800"/>
              </a:xfrm>
              <a:custGeom>
                <a:avLst/>
                <a:gdLst>
                  <a:gd name="textAreaLeft" fmla="*/ -360 w 353160"/>
                  <a:gd name="textAreaRight" fmla="*/ 353160 w 353160"/>
                  <a:gd name="textAreaTop" fmla="*/ 0 h 307800"/>
                  <a:gd name="textAreaBottom" fmla="*/ 308160 h 30780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任意多边形 77837"/>
              <p:cNvSpPr/>
              <p:nvPr/>
            </p:nvSpPr>
            <p:spPr>
              <a:xfrm flipH="1" rot="789600">
                <a:off x="1070280" y="3830040"/>
                <a:ext cx="87480" cy="182520"/>
              </a:xfrm>
              <a:custGeom>
                <a:avLst/>
                <a:gdLst>
                  <a:gd name="textAreaLeft" fmla="*/ -360 w 87480"/>
                  <a:gd name="textAreaRight" fmla="*/ 87480 w 874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组合 77838"/>
              <p:cNvGrpSpPr/>
              <p:nvPr/>
            </p:nvGrpSpPr>
            <p:grpSpPr>
              <a:xfrm>
                <a:off x="1187280" y="3958560"/>
                <a:ext cx="2432520" cy="1829880"/>
                <a:chOff x="1187280" y="3958560"/>
                <a:chExt cx="2432520" cy="1829880"/>
              </a:xfrm>
            </p:grpSpPr>
            <p:sp>
              <p:nvSpPr>
                <p:cNvPr id="105" name="任意多边形 77839"/>
                <p:cNvSpPr/>
                <p:nvPr/>
              </p:nvSpPr>
              <p:spPr>
                <a:xfrm flipH="1" rot="7102800">
                  <a:off x="1782000" y="3738240"/>
                  <a:ext cx="474480" cy="1635480"/>
                </a:xfrm>
                <a:custGeom>
                  <a:avLst/>
                  <a:gdLst>
                    <a:gd name="textAreaLeft" fmla="*/ 360 w 474480"/>
                    <a:gd name="textAreaRight" fmla="*/ 475200 w 474480"/>
                    <a:gd name="textAreaTop" fmla="*/ 0 h 1635480"/>
                    <a:gd name="textAreaBottom" fmla="*/ 1635840 h 163548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任意多边形 77840"/>
                <p:cNvSpPr/>
                <p:nvPr/>
              </p:nvSpPr>
              <p:spPr>
                <a:xfrm flipH="1" rot="7102800">
                  <a:off x="3156120" y="4935600"/>
                  <a:ext cx="108720" cy="670320"/>
                </a:xfrm>
                <a:custGeom>
                  <a:avLst/>
                  <a:gdLst>
                    <a:gd name="textAreaLeft" fmla="*/ 360 w 108720"/>
                    <a:gd name="textAreaRight" fmla="*/ 109440 w 108720"/>
                    <a:gd name="textAreaTop" fmla="*/ 0 h 670320"/>
                    <a:gd name="textAreaBottom" fmla="*/ 670680 h 67032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任意多边形 77841"/>
                <p:cNvSpPr/>
                <p:nvPr/>
              </p:nvSpPr>
              <p:spPr>
                <a:xfrm flipH="1" rot="7102800">
                  <a:off x="3423600" y="5617440"/>
                  <a:ext cx="198360" cy="113040"/>
                </a:xfrm>
                <a:custGeom>
                  <a:avLst/>
                  <a:gdLst>
                    <a:gd name="textAreaLeft" fmla="*/ -360 w 198360"/>
                    <a:gd name="textAreaRight" fmla="*/ 198360 w 198360"/>
                    <a:gd name="textAreaTop" fmla="*/ 0 h 113040"/>
                    <a:gd name="textAreaBottom" fmla="*/ 113400 h 11304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" name="组合 77842"/>
            <p:cNvGrpSpPr/>
            <p:nvPr/>
          </p:nvGrpSpPr>
          <p:grpSpPr>
            <a:xfrm>
              <a:off x="643320" y="6180840"/>
              <a:ext cx="1007640" cy="645480"/>
              <a:chOff x="643320" y="6180840"/>
              <a:chExt cx="1007640" cy="645480"/>
            </a:xfrm>
          </p:grpSpPr>
          <p:sp>
            <p:nvSpPr>
              <p:cNvPr id="109" name="任意多边形 77843"/>
              <p:cNvSpPr/>
              <p:nvPr/>
            </p:nvSpPr>
            <p:spPr>
              <a:xfrm rot="6248400">
                <a:off x="1365120" y="6148800"/>
                <a:ext cx="196560" cy="33660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336600"/>
                  <a:gd name="textAreaBottom" fmla="*/ 336960 h 3366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任意多边形 77844"/>
              <p:cNvSpPr/>
              <p:nvPr/>
            </p:nvSpPr>
            <p:spPr>
              <a:xfrm rot="6248400">
                <a:off x="1082160" y="6488640"/>
                <a:ext cx="336600" cy="27972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79720"/>
                  <a:gd name="textAreaBottom" fmla="*/ 280080 h 279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任意多边形 77845"/>
              <p:cNvSpPr/>
              <p:nvPr/>
            </p:nvSpPr>
            <p:spPr>
              <a:xfrm rot="6248400">
                <a:off x="579240" y="6370560"/>
                <a:ext cx="352080" cy="1422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42200"/>
                  <a:gd name="textAreaBottom" fmla="*/ 142200 h 142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" name="组合 77846"/>
            <p:cNvGrpSpPr/>
            <p:nvPr/>
          </p:nvGrpSpPr>
          <p:grpSpPr>
            <a:xfrm>
              <a:off x="426960" y="1760760"/>
              <a:ext cx="1047240" cy="715320"/>
              <a:chOff x="426960" y="1760760"/>
              <a:chExt cx="1047240" cy="715320"/>
            </a:xfrm>
          </p:grpSpPr>
          <p:sp>
            <p:nvSpPr>
              <p:cNvPr id="113" name="任意多边形 77847"/>
              <p:cNvSpPr/>
              <p:nvPr/>
            </p:nvSpPr>
            <p:spPr>
              <a:xfrm rot="5002800">
                <a:off x="1161720" y="1687680"/>
                <a:ext cx="206640" cy="39708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任意多边形 77848"/>
              <p:cNvSpPr/>
              <p:nvPr/>
            </p:nvSpPr>
            <p:spPr>
              <a:xfrm rot="5002800">
                <a:off x="978120" y="2108880"/>
                <a:ext cx="353880" cy="32976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29760"/>
                  <a:gd name="textAreaBottom" fmla="*/ 330120 h 329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任意多边形 77849"/>
              <p:cNvSpPr/>
              <p:nvPr/>
            </p:nvSpPr>
            <p:spPr>
              <a:xfrm rot="5002800">
                <a:off x="346320" y="2198520"/>
                <a:ext cx="370080" cy="16776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67760"/>
                  <a:gd name="textAreaBottom" fmla="*/ 168120 h 167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组合 77850"/>
            <p:cNvGrpSpPr/>
            <p:nvPr/>
          </p:nvGrpSpPr>
          <p:grpSpPr>
            <a:xfrm>
              <a:off x="1724400" y="0"/>
              <a:ext cx="729000" cy="581400"/>
              <a:chOff x="1724400" y="0"/>
              <a:chExt cx="729000" cy="581400"/>
            </a:xfrm>
          </p:grpSpPr>
          <p:sp>
            <p:nvSpPr>
              <p:cNvPr id="117" name="任意多边形 77851"/>
              <p:cNvSpPr/>
              <p:nvPr/>
            </p:nvSpPr>
            <p:spPr>
              <a:xfrm>
                <a:off x="1724400" y="0"/>
                <a:ext cx="230760" cy="21852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任意多边形 77852"/>
              <p:cNvSpPr/>
              <p:nvPr/>
            </p:nvSpPr>
            <p:spPr>
              <a:xfrm>
                <a:off x="2058120" y="103320"/>
                <a:ext cx="395280" cy="181440"/>
              </a:xfrm>
              <a:custGeom>
                <a:avLst/>
                <a:gdLst>
                  <a:gd name="textAreaLeft" fmla="*/ 0 w 395280"/>
                  <a:gd name="textAreaRight" fmla="*/ 395640 w 395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任意多边形 77853"/>
              <p:cNvSpPr/>
              <p:nvPr/>
            </p:nvSpPr>
            <p:spPr>
              <a:xfrm>
                <a:off x="1978560" y="489240"/>
                <a:ext cx="413280" cy="92160"/>
              </a:xfrm>
              <a:custGeom>
                <a:avLst/>
                <a:gdLst>
                  <a:gd name="textAreaLeft" fmla="*/ 0 w 413280"/>
                  <a:gd name="textAreaRight" fmla="*/ 413640 w 41328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任意多边形 77854"/>
            <p:cNvSpPr/>
            <p:nvPr/>
          </p:nvSpPr>
          <p:spPr>
            <a:xfrm>
              <a:off x="183600" y="149400"/>
              <a:ext cx="1479240" cy="1199880"/>
            </a:xfrm>
            <a:custGeom>
              <a:avLst/>
              <a:gdLst>
                <a:gd name="textAreaLeft" fmla="*/ 0 w 1479240"/>
                <a:gd name="textAreaRight" fmla="*/ 1479600 w 147924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77855"/>
            <p:cNvSpPr/>
            <p:nvPr/>
          </p:nvSpPr>
          <p:spPr>
            <a:xfrm rot="828600">
              <a:off x="511200" y="5403600"/>
              <a:ext cx="279360" cy="264960"/>
            </a:xfrm>
            <a:custGeom>
              <a:avLst/>
              <a:gdLst>
                <a:gd name="textAreaLeft" fmla="*/ 0 w 279360"/>
                <a:gd name="textAreaRight" fmla="*/ 279720 w 2793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77856"/>
            <p:cNvSpPr/>
            <p:nvPr/>
          </p:nvSpPr>
          <p:spPr>
            <a:xfrm rot="828600">
              <a:off x="561960" y="5702040"/>
              <a:ext cx="139680" cy="68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任意多边形 77857"/>
            <p:cNvSpPr/>
            <p:nvPr/>
          </p:nvSpPr>
          <p:spPr>
            <a:xfrm>
              <a:off x="22680" y="6524640"/>
              <a:ext cx="249480" cy="331920"/>
            </a:xfrm>
            <a:custGeom>
              <a:avLst/>
              <a:gdLst>
                <a:gd name="textAreaLeft" fmla="*/ 0 w 249480"/>
                <a:gd name="textAreaRight" fmla="*/ 249840 w 24948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任意多边形 77858"/>
            <p:cNvSpPr/>
            <p:nvPr/>
          </p:nvSpPr>
          <p:spPr>
            <a:xfrm>
              <a:off x="-360" y="6299280"/>
              <a:ext cx="275040" cy="203040"/>
            </a:xfrm>
            <a:custGeom>
              <a:avLst/>
              <a:gdLst>
                <a:gd name="textAreaLeft" fmla="*/ 0 w 275040"/>
                <a:gd name="textAreaRight" fmla="*/ 275400 w 27504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77859"/>
            <p:cNvSpPr/>
            <p:nvPr/>
          </p:nvSpPr>
          <p:spPr>
            <a:xfrm>
              <a:off x="-360" y="6269040"/>
              <a:ext cx="99360" cy="1364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77860"/>
            <p:cNvSpPr/>
            <p:nvPr/>
          </p:nvSpPr>
          <p:spPr>
            <a:xfrm>
              <a:off x="-360" y="5141880"/>
              <a:ext cx="1051920" cy="1174680"/>
            </a:xfrm>
            <a:custGeom>
              <a:avLst/>
              <a:gdLst>
                <a:gd name="textAreaLeft" fmla="*/ 0 w 1051920"/>
                <a:gd name="textAreaRight" fmla="*/ 1052280 w 10519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任意多边形 77861"/>
            <p:cNvSpPr/>
            <p:nvPr/>
          </p:nvSpPr>
          <p:spPr>
            <a:xfrm rot="1584000">
              <a:off x="41400" y="650880"/>
              <a:ext cx="727920" cy="388800"/>
            </a:xfrm>
            <a:custGeom>
              <a:avLst/>
              <a:gdLst>
                <a:gd name="textAreaLeft" fmla="*/ 0 w 727920"/>
                <a:gd name="textAreaRight" fmla="*/ 728280 w 7279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任意多边形 77862"/>
            <p:cNvSpPr/>
            <p:nvPr/>
          </p:nvSpPr>
          <p:spPr>
            <a:xfrm rot="1584000">
              <a:off x="511560" y="1199880"/>
              <a:ext cx="353520" cy="18252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77863"/>
            <p:cNvSpPr/>
            <p:nvPr/>
          </p:nvSpPr>
          <p:spPr>
            <a:xfrm rot="1584000">
              <a:off x="1213920" y="453960"/>
              <a:ext cx="311040" cy="254160"/>
            </a:xfrm>
            <a:custGeom>
              <a:avLst/>
              <a:gdLst>
                <a:gd name="textAreaLeft" fmla="*/ 0 w 311040"/>
                <a:gd name="textAreaRight" fmla="*/ 311400 w 3110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77864"/>
            <p:cNvSpPr/>
            <p:nvPr/>
          </p:nvSpPr>
          <p:spPr>
            <a:xfrm rot="1584000">
              <a:off x="498600" y="1144080"/>
              <a:ext cx="131040" cy="154080"/>
            </a:xfrm>
            <a:custGeom>
              <a:avLst/>
              <a:gdLst>
                <a:gd name="textAreaLeft" fmla="*/ 0 w 131040"/>
                <a:gd name="textAreaRight" fmla="*/ 131400 w 13104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任意多边形 77865"/>
            <p:cNvSpPr/>
            <p:nvPr/>
          </p:nvSpPr>
          <p:spPr>
            <a:xfrm rot="1584000">
              <a:off x="1237320" y="739800"/>
              <a:ext cx="151920" cy="65160"/>
            </a:xfrm>
            <a:custGeom>
              <a:avLst/>
              <a:gdLst>
                <a:gd name="textAreaLeft" fmla="*/ 0 w 151920"/>
                <a:gd name="textAreaRight" fmla="*/ 152280 w 1519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 77866"/>
            <p:cNvSpPr/>
            <p:nvPr/>
          </p:nvSpPr>
          <p:spPr>
            <a:xfrm>
              <a:off x="-360" y="1406520"/>
              <a:ext cx="762120" cy="1031760"/>
            </a:xfrm>
            <a:custGeom>
              <a:avLst/>
              <a:gdLst>
                <a:gd name="textAreaLeft" fmla="*/ 0 w 762120"/>
                <a:gd name="textAreaRight" fmla="*/ 762480 w 7621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77867"/>
            <p:cNvSpPr/>
            <p:nvPr/>
          </p:nvSpPr>
          <p:spPr>
            <a:xfrm rot="1584000">
              <a:off x="117720" y="132840"/>
              <a:ext cx="1701360" cy="1089000"/>
            </a:xfrm>
            <a:custGeom>
              <a:avLst/>
              <a:gdLst>
                <a:gd name="textAreaLeft" fmla="*/ 0 w 1701360"/>
                <a:gd name="textAreaRight" fmla="*/ 1701720 w 170136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>
            <a:off x="609120" y="624348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CD43-2CC1-4C35-B918-967C5713A44E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176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C5146-0EA6-4707-8BB2-981F30678F2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69633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93470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4183F-7A82-421C-ABB7-0E176B12D50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组合 68609"/>
          <p:cNvGrpSpPr/>
          <p:nvPr/>
        </p:nvGrpSpPr>
        <p:grpSpPr>
          <a:xfrm>
            <a:off x="0" y="0"/>
            <a:ext cx="3555720" cy="6858000"/>
            <a:chOff x="0" y="0"/>
            <a:chExt cx="3555720" cy="6858000"/>
          </a:xfrm>
        </p:grpSpPr>
        <p:sp>
          <p:nvSpPr>
            <p:cNvPr id="262" name="矩形 68610"/>
            <p:cNvSpPr/>
            <p:nvPr/>
          </p:nvSpPr>
          <p:spPr>
            <a:xfrm>
              <a:off x="26413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3" name="图片 68611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853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202680" y="6248520"/>
            <a:ext cx="253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924552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FFE7-7C81-4202-86A6-314C3748284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组合 74753"/>
          <p:cNvGrpSpPr/>
          <p:nvPr/>
        </p:nvGrpSpPr>
        <p:grpSpPr>
          <a:xfrm>
            <a:off x="2211480" y="1600200"/>
            <a:ext cx="9116640" cy="3200400"/>
            <a:chOff x="2211480" y="1600200"/>
            <a:chExt cx="9116640" cy="3200400"/>
          </a:xfrm>
        </p:grpSpPr>
        <p:sp>
          <p:nvSpPr>
            <p:cNvPr id="306" name="椭圆 74754"/>
            <p:cNvSpPr/>
            <p:nvPr/>
          </p:nvSpPr>
          <p:spPr>
            <a:xfrm flipH="1">
              <a:off x="9296280" y="160020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椭圆 74755"/>
            <p:cNvSpPr/>
            <p:nvPr/>
          </p:nvSpPr>
          <p:spPr>
            <a:xfrm flipH="1">
              <a:off x="6907680" y="160020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椭圆 74756"/>
            <p:cNvSpPr/>
            <p:nvPr/>
          </p:nvSpPr>
          <p:spPr>
            <a:xfrm flipH="1">
              <a:off x="4519800" y="1600200"/>
              <a:ext cx="203220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椭圆 74757"/>
            <p:cNvSpPr/>
            <p:nvPr/>
          </p:nvSpPr>
          <p:spPr>
            <a:xfrm flipH="1">
              <a:off x="4519800" y="3276720"/>
              <a:ext cx="203220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椭圆 74758"/>
            <p:cNvSpPr/>
            <p:nvPr/>
          </p:nvSpPr>
          <p:spPr>
            <a:xfrm flipH="1">
              <a:off x="2211480" y="3276720"/>
              <a:ext cx="20318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椭圆 74759"/>
            <p:cNvSpPr/>
            <p:nvPr/>
          </p:nvSpPr>
          <p:spPr>
            <a:xfrm flipH="1">
              <a:off x="9296280" y="3276720"/>
              <a:ext cx="20318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body"/>
          </p:nvPr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9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0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44FB-923F-4BFE-A31B-99E931B108B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78849"/>
          <p:cNvGrpSpPr/>
          <p:nvPr/>
        </p:nvGrpSpPr>
        <p:grpSpPr>
          <a:xfrm>
            <a:off x="-8280" y="-63000"/>
            <a:ext cx="11953800" cy="6921000"/>
            <a:chOff x="-8280" y="-63000"/>
            <a:chExt cx="11953800" cy="6921000"/>
          </a:xfrm>
        </p:grpSpPr>
        <p:grpSp>
          <p:nvGrpSpPr>
            <p:cNvPr id="354" name="组合 78850"/>
            <p:cNvGrpSpPr/>
            <p:nvPr/>
          </p:nvGrpSpPr>
          <p:grpSpPr>
            <a:xfrm>
              <a:off x="7365240" y="-63000"/>
              <a:ext cx="4580280" cy="6309720"/>
              <a:chOff x="7365240" y="-63000"/>
              <a:chExt cx="4580280" cy="6309720"/>
            </a:xfrm>
          </p:grpSpPr>
          <p:sp>
            <p:nvSpPr>
              <p:cNvPr id="355" name="任意多边形 78851"/>
              <p:cNvSpPr/>
              <p:nvPr/>
            </p:nvSpPr>
            <p:spPr>
              <a:xfrm flipV="1" rot="11970000">
                <a:off x="8811720" y="339840"/>
                <a:ext cx="2820960" cy="2357280"/>
              </a:xfrm>
              <a:custGeom>
                <a:avLst/>
                <a:gdLst>
                  <a:gd name="textAreaLeft" fmla="*/ 0 w 2820960"/>
                  <a:gd name="textAreaRight" fmla="*/ 2821320 w 282096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任意多边形 78852"/>
              <p:cNvSpPr/>
              <p:nvPr/>
            </p:nvSpPr>
            <p:spPr>
              <a:xfrm flipV="1" rot="11970000">
                <a:off x="9912960" y="1947600"/>
                <a:ext cx="1208520" cy="843480"/>
              </a:xfrm>
              <a:custGeom>
                <a:avLst/>
                <a:gdLst>
                  <a:gd name="textAreaLeft" fmla="*/ 0 w 1208520"/>
                  <a:gd name="textAreaRight" fmla="*/ 1208880 w 120852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任意多边形 78853"/>
              <p:cNvSpPr/>
              <p:nvPr/>
            </p:nvSpPr>
            <p:spPr>
              <a:xfrm flipV="1" rot="11970000">
                <a:off x="9111960" y="2598840"/>
                <a:ext cx="585720" cy="395280"/>
              </a:xfrm>
              <a:custGeom>
                <a:avLst/>
                <a:gdLst>
                  <a:gd name="textAreaLeft" fmla="*/ 0 w 585720"/>
                  <a:gd name="textAreaRight" fmla="*/ 586080 w 58572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任意多边形 78854"/>
              <p:cNvSpPr/>
              <p:nvPr/>
            </p:nvSpPr>
            <p:spPr>
              <a:xfrm flipV="1" rot="11970000">
                <a:off x="9715680" y="669600"/>
                <a:ext cx="518760" cy="550800"/>
              </a:xfrm>
              <a:custGeom>
                <a:avLst/>
                <a:gdLst>
                  <a:gd name="textAreaLeft" fmla="*/ 0 w 518760"/>
                  <a:gd name="textAreaRight" fmla="*/ 519120 w 5187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任意多边形 78855"/>
              <p:cNvSpPr/>
              <p:nvPr/>
            </p:nvSpPr>
            <p:spPr>
              <a:xfrm flipV="1" rot="11970000">
                <a:off x="9549720" y="2645640"/>
                <a:ext cx="218160" cy="33192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任意多边形 78856"/>
              <p:cNvSpPr/>
              <p:nvPr/>
            </p:nvSpPr>
            <p:spPr>
              <a:xfrm flipV="1" rot="11970000">
                <a:off x="9560880" y="1241280"/>
                <a:ext cx="253800" cy="142920"/>
              </a:xfrm>
              <a:custGeom>
                <a:avLst/>
                <a:gdLst>
                  <a:gd name="textAreaLeft" fmla="*/ 0 w 253800"/>
                  <a:gd name="textAreaRight" fmla="*/ 254160 w 25380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任意多边形 78857"/>
              <p:cNvSpPr/>
              <p:nvPr/>
            </p:nvSpPr>
            <p:spPr>
              <a:xfrm flipV="1" rot="11970000">
                <a:off x="7890840" y="2955240"/>
                <a:ext cx="698040" cy="3268440"/>
              </a:xfrm>
              <a:custGeom>
                <a:avLst/>
                <a:gdLst>
                  <a:gd name="textAreaLeft" fmla="*/ 0 w 698040"/>
                  <a:gd name="textAreaRight" fmla="*/ 698400 w 698040"/>
                  <a:gd name="textAreaTop" fmla="*/ -360 h 3268440"/>
                  <a:gd name="textAreaBottom" fmla="*/ 3268440 h 326844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任意多边形 78858"/>
            <p:cNvSpPr/>
            <p:nvPr/>
          </p:nvSpPr>
          <p:spPr>
            <a:xfrm flipH="1" rot="373800">
              <a:off x="45360" y="3106440"/>
              <a:ext cx="683280" cy="1030320"/>
            </a:xfrm>
            <a:custGeom>
              <a:avLst/>
              <a:gdLst>
                <a:gd name="textAreaLeft" fmla="*/ 360 w 683280"/>
                <a:gd name="textAreaRight" fmla="*/ 684000 w 683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任意多边形 78859"/>
            <p:cNvSpPr/>
            <p:nvPr/>
          </p:nvSpPr>
          <p:spPr>
            <a:xfrm>
              <a:off x="355320" y="2000160"/>
              <a:ext cx="2664720" cy="2432160"/>
            </a:xfrm>
            <a:custGeom>
              <a:avLst/>
              <a:gdLst>
                <a:gd name="textAreaLeft" fmla="*/ 0 w 2664720"/>
                <a:gd name="textAreaRight" fmla="*/ 2665080 w 2664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任意多边形 78860"/>
            <p:cNvSpPr/>
            <p:nvPr/>
          </p:nvSpPr>
          <p:spPr>
            <a:xfrm>
              <a:off x="0" y="4143240"/>
              <a:ext cx="1695240" cy="728640"/>
            </a:xfrm>
            <a:custGeom>
              <a:avLst/>
              <a:gdLst>
                <a:gd name="textAreaLeft" fmla="*/ 0 w 1695240"/>
                <a:gd name="textAreaRight" fmla="*/ 1695600 w 169524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任意多边形 78861"/>
            <p:cNvSpPr/>
            <p:nvPr/>
          </p:nvSpPr>
          <p:spPr>
            <a:xfrm flipH="1" rot="373800">
              <a:off x="1899360" y="4532400"/>
              <a:ext cx="749160" cy="736560"/>
            </a:xfrm>
            <a:custGeom>
              <a:avLst/>
              <a:gdLst>
                <a:gd name="textAreaLeft" fmla="*/ -360 w 749160"/>
                <a:gd name="textAreaRight" fmla="*/ 749160 w 7491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任意多边形 78862"/>
            <p:cNvSpPr/>
            <p:nvPr/>
          </p:nvSpPr>
          <p:spPr>
            <a:xfrm flipH="1" rot="373800">
              <a:off x="1690560" y="4728960"/>
              <a:ext cx="183960" cy="434520"/>
            </a:xfrm>
            <a:custGeom>
              <a:avLst/>
              <a:gdLst>
                <a:gd name="textAreaLeft" fmla="*/ -360 w 183960"/>
                <a:gd name="textAreaRight" fmla="*/ 183960 w 183960"/>
                <a:gd name="textAreaTop" fmla="*/ 0 h 434520"/>
                <a:gd name="textAreaBottom" fmla="*/ 434880 h 43452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任意多边形 78863"/>
            <p:cNvSpPr/>
            <p:nvPr/>
          </p:nvSpPr>
          <p:spPr>
            <a:xfrm>
              <a:off x="2518920" y="5195880"/>
              <a:ext cx="2345040" cy="1662120"/>
            </a:xfrm>
            <a:custGeom>
              <a:avLst/>
              <a:gdLst>
                <a:gd name="textAreaLeft" fmla="*/ 0 w 2345040"/>
                <a:gd name="textAreaRight" fmla="*/ 2345400 w 234504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组合 78864"/>
            <p:cNvGrpSpPr/>
            <p:nvPr/>
          </p:nvGrpSpPr>
          <p:grpSpPr>
            <a:xfrm>
              <a:off x="5535360" y="929880"/>
              <a:ext cx="1239840" cy="1462680"/>
              <a:chOff x="5535360" y="929880"/>
              <a:chExt cx="1239840" cy="1462680"/>
            </a:xfrm>
          </p:grpSpPr>
          <p:sp>
            <p:nvSpPr>
              <p:cNvPr id="369" name="任意多边形 78865"/>
              <p:cNvSpPr/>
              <p:nvPr/>
            </p:nvSpPr>
            <p:spPr>
              <a:xfrm rot="3220200">
                <a:off x="6171120" y="941760"/>
                <a:ext cx="285840" cy="50580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任意多边形 78866"/>
              <p:cNvSpPr/>
              <p:nvPr/>
            </p:nvSpPr>
            <p:spPr>
              <a:xfrm rot="3220200">
                <a:off x="6216480" y="1515240"/>
                <a:ext cx="489240" cy="420120"/>
              </a:xfrm>
              <a:custGeom>
                <a:avLst/>
                <a:gdLst>
                  <a:gd name="textAreaLeft" fmla="*/ 0 w 489240"/>
                  <a:gd name="textAreaRight" fmla="*/ 489600 w 489240"/>
                  <a:gd name="textAreaTop" fmla="*/ 0 h 420120"/>
                  <a:gd name="textAreaBottom" fmla="*/ 420480 h 4201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任意多边形 78867"/>
              <p:cNvSpPr/>
              <p:nvPr/>
            </p:nvSpPr>
            <p:spPr>
              <a:xfrm rot="3220200">
                <a:off x="5517000" y="2016000"/>
                <a:ext cx="511200" cy="21384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2" name="组合 78868"/>
            <p:cNvGrpSpPr/>
            <p:nvPr/>
          </p:nvGrpSpPr>
          <p:grpSpPr>
            <a:xfrm>
              <a:off x="7501680" y="229680"/>
              <a:ext cx="1186920" cy="951480"/>
              <a:chOff x="7501680" y="229680"/>
              <a:chExt cx="1186920" cy="951480"/>
            </a:xfrm>
          </p:grpSpPr>
          <p:sp>
            <p:nvSpPr>
              <p:cNvPr id="373" name="任意多边形 78869"/>
              <p:cNvSpPr/>
              <p:nvPr/>
            </p:nvSpPr>
            <p:spPr>
              <a:xfrm rot="14908200">
                <a:off x="7669080" y="768600"/>
                <a:ext cx="178560" cy="4820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482040"/>
                  <a:gd name="textAreaBottom" fmla="*/ 482400 h 4820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任意多边形 78870"/>
              <p:cNvSpPr/>
              <p:nvPr/>
            </p:nvSpPr>
            <p:spPr>
              <a:xfrm rot="14908200">
                <a:off x="7661160" y="441360"/>
                <a:ext cx="306000" cy="40032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任意多边形 78871"/>
              <p:cNvSpPr/>
              <p:nvPr/>
            </p:nvSpPr>
            <p:spPr>
              <a:xfrm rot="14908200">
                <a:off x="8374680" y="313920"/>
                <a:ext cx="320040" cy="20376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203760"/>
                  <a:gd name="textAreaBottom" fmla="*/ 204120 h 2037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" name="组合 78872"/>
            <p:cNvGrpSpPr/>
            <p:nvPr/>
          </p:nvGrpSpPr>
          <p:grpSpPr>
            <a:xfrm>
              <a:off x="1352880" y="5257800"/>
              <a:ext cx="1253520" cy="940320"/>
              <a:chOff x="1352880" y="5257800"/>
              <a:chExt cx="1253520" cy="940320"/>
            </a:xfrm>
          </p:grpSpPr>
          <p:sp>
            <p:nvSpPr>
              <p:cNvPr id="377" name="任意多边形 78873"/>
              <p:cNvSpPr/>
              <p:nvPr/>
            </p:nvSpPr>
            <p:spPr>
              <a:xfrm rot="8524800">
                <a:off x="2214720" y="5494320"/>
                <a:ext cx="335160" cy="298800"/>
              </a:xfrm>
              <a:custGeom>
                <a:avLst/>
                <a:gdLst>
                  <a:gd name="textAreaLeft" fmla="*/ 0 w 335160"/>
                  <a:gd name="textAreaRight" fmla="*/ 335160 w 33516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任意多边形 78874"/>
              <p:cNvSpPr/>
              <p:nvPr/>
            </p:nvSpPr>
            <p:spPr>
              <a:xfrm rot="8524800">
                <a:off x="1547640" y="5799240"/>
                <a:ext cx="573840" cy="248400"/>
              </a:xfrm>
              <a:custGeom>
                <a:avLst/>
                <a:gdLst>
                  <a:gd name="textAreaLeft" fmla="*/ 0 w 573840"/>
                  <a:gd name="textAreaRight" fmla="*/ 574200 w 57384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任意多边形 78875"/>
              <p:cNvSpPr/>
              <p:nvPr/>
            </p:nvSpPr>
            <p:spPr>
              <a:xfrm rot="8524800">
                <a:off x="1328400" y="5428800"/>
                <a:ext cx="600120" cy="12636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0" name="组合 78876"/>
            <p:cNvGrpSpPr/>
            <p:nvPr/>
          </p:nvGrpSpPr>
          <p:grpSpPr>
            <a:xfrm>
              <a:off x="523080" y="367920"/>
              <a:ext cx="2131560" cy="1250640"/>
              <a:chOff x="523080" y="367920"/>
              <a:chExt cx="2131560" cy="1250640"/>
            </a:xfrm>
          </p:grpSpPr>
          <p:sp>
            <p:nvSpPr>
              <p:cNvPr id="381" name="任意多边形 78877"/>
              <p:cNvSpPr/>
              <p:nvPr/>
            </p:nvSpPr>
            <p:spPr>
              <a:xfrm flipH="1" rot="4107000">
                <a:off x="2080800" y="900000"/>
                <a:ext cx="356040" cy="7088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708840"/>
                  <a:gd name="textAreaBottom" fmla="*/ 709200 h 7088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任意多边形 78878"/>
              <p:cNvSpPr/>
              <p:nvPr/>
            </p:nvSpPr>
            <p:spPr>
              <a:xfrm flipH="1" rot="4107000">
                <a:off x="1462680" y="465120"/>
                <a:ext cx="609480" cy="588600"/>
              </a:xfrm>
              <a:custGeom>
                <a:avLst/>
                <a:gdLst>
                  <a:gd name="textAreaLeft" fmla="*/ -360 w 609480"/>
                  <a:gd name="textAreaRight" fmla="*/ 609480 w 609480"/>
                  <a:gd name="textAreaTop" fmla="*/ 0 h 588600"/>
                  <a:gd name="textAreaBottom" fmla="*/ 588600 h 588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任意多边形 78879"/>
              <p:cNvSpPr/>
              <p:nvPr/>
            </p:nvSpPr>
            <p:spPr>
              <a:xfrm flipH="1" rot="4107000">
                <a:off x="460440" y="1117080"/>
                <a:ext cx="637200" cy="299520"/>
              </a:xfrm>
              <a:custGeom>
                <a:avLst/>
                <a:gdLst>
                  <a:gd name="textAreaLeft" fmla="*/ 360 w 637200"/>
                  <a:gd name="textAreaRight" fmla="*/ 637920 w 63720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组合 78880"/>
            <p:cNvGrpSpPr/>
            <p:nvPr/>
          </p:nvGrpSpPr>
          <p:grpSpPr>
            <a:xfrm>
              <a:off x="9848880" y="3661200"/>
              <a:ext cx="1521720" cy="1686960"/>
              <a:chOff x="9848880" y="3661200"/>
              <a:chExt cx="1521720" cy="1686960"/>
            </a:xfrm>
          </p:grpSpPr>
          <p:sp>
            <p:nvSpPr>
              <p:cNvPr id="385" name="任意多边形 78881"/>
              <p:cNvSpPr/>
              <p:nvPr/>
            </p:nvSpPr>
            <p:spPr>
              <a:xfrm flipH="1" rot="10015800">
                <a:off x="9902160" y="4770360"/>
                <a:ext cx="474480" cy="531000"/>
              </a:xfrm>
              <a:custGeom>
                <a:avLst/>
                <a:gdLst>
                  <a:gd name="textAreaLeft" fmla="*/ 360 w 474480"/>
                  <a:gd name="textAreaRight" fmla="*/ 475200 w 47448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任意多边形 78882"/>
              <p:cNvSpPr/>
              <p:nvPr/>
            </p:nvSpPr>
            <p:spPr>
              <a:xfrm flipH="1" rot="10015800">
                <a:off x="10518480" y="4420800"/>
                <a:ext cx="812160" cy="441360"/>
              </a:xfrm>
              <a:custGeom>
                <a:avLst/>
                <a:gdLst>
                  <a:gd name="textAreaLeft" fmla="*/ 360 w 812160"/>
                  <a:gd name="textAreaRight" fmla="*/ 812880 w 81216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任意多边形 78883"/>
              <p:cNvSpPr/>
              <p:nvPr/>
            </p:nvSpPr>
            <p:spPr>
              <a:xfrm flipH="1" rot="10015800">
                <a:off x="10171440" y="3754080"/>
                <a:ext cx="848880" cy="224640"/>
              </a:xfrm>
              <a:custGeom>
                <a:avLst/>
                <a:gdLst>
                  <a:gd name="textAreaLeft" fmla="*/ 360 w 848880"/>
                  <a:gd name="textAreaRight" fmla="*/ 849600 w 84888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任意多边形 78884"/>
            <p:cNvSpPr/>
            <p:nvPr/>
          </p:nvSpPr>
          <p:spPr>
            <a:xfrm>
              <a:off x="2575800" y="3240"/>
              <a:ext cx="1824120" cy="1406520"/>
            </a:xfrm>
            <a:custGeom>
              <a:avLst/>
              <a:gdLst>
                <a:gd name="textAreaLeft" fmla="*/ 0 w 1824120"/>
                <a:gd name="textAreaRight" fmla="*/ 1824480 w 182412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任意多边形 78885"/>
            <p:cNvSpPr/>
            <p:nvPr/>
          </p:nvSpPr>
          <p:spPr>
            <a:xfrm flipV="1" rot="9832800">
              <a:off x="4566600" y="160920"/>
              <a:ext cx="1441080" cy="941760"/>
            </a:xfrm>
            <a:custGeom>
              <a:avLst/>
              <a:gdLst>
                <a:gd name="textAreaLeft" fmla="*/ 0 w 1441080"/>
                <a:gd name="textAreaRight" fmla="*/ 1441440 w 1441080"/>
                <a:gd name="textAreaTop" fmla="*/ 360 h 941760"/>
                <a:gd name="textAreaBottom" fmla="*/ 942480 h 94176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任意多边形 78886"/>
            <p:cNvSpPr/>
            <p:nvPr/>
          </p:nvSpPr>
          <p:spPr>
            <a:xfrm flipV="1" rot="9832800">
              <a:off x="4226040" y="1361160"/>
              <a:ext cx="698040" cy="441000"/>
            </a:xfrm>
            <a:custGeom>
              <a:avLst/>
              <a:gdLst>
                <a:gd name="textAreaLeft" fmla="*/ 0 w 698040"/>
                <a:gd name="textAreaRight" fmla="*/ 698400 w 6980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任意多边形 78887"/>
            <p:cNvSpPr/>
            <p:nvPr/>
          </p:nvSpPr>
          <p:spPr>
            <a:xfrm flipV="1" rot="9832800">
              <a:off x="4706640" y="1282320"/>
              <a:ext cx="260280" cy="370080"/>
            </a:xfrm>
            <a:custGeom>
              <a:avLst/>
              <a:gdLst>
                <a:gd name="textAreaLeft" fmla="*/ 0 w 260280"/>
                <a:gd name="textAreaRight" fmla="*/ 260640 w 2602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任意多边形 78888"/>
            <p:cNvSpPr/>
            <p:nvPr/>
          </p:nvSpPr>
          <p:spPr>
            <a:xfrm>
              <a:off x="3393000" y="0"/>
              <a:ext cx="262440" cy="192240"/>
            </a:xfrm>
            <a:custGeom>
              <a:avLst/>
              <a:gdLst>
                <a:gd name="textAreaLeft" fmla="*/ 0 w 262440"/>
                <a:gd name="textAreaRight" fmla="*/ 262800 w 26244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任意多边形 78889"/>
            <p:cNvSpPr/>
            <p:nvPr/>
          </p:nvSpPr>
          <p:spPr>
            <a:xfrm flipV="1" rot="9832800">
              <a:off x="4598640" y="1964160"/>
              <a:ext cx="831600" cy="365184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360 h 3651840"/>
                <a:gd name="textAreaBottom" fmla="*/ 3652560 h 365184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任意多边形 78890"/>
            <p:cNvSpPr/>
            <p:nvPr/>
          </p:nvSpPr>
          <p:spPr>
            <a:xfrm>
              <a:off x="0" y="2933640"/>
              <a:ext cx="75960" cy="209520"/>
            </a:xfrm>
            <a:custGeom>
              <a:avLst/>
              <a:gdLst>
                <a:gd name="textAreaLeft" fmla="*/ 0 w 75960"/>
                <a:gd name="textAreaRight" fmla="*/ 76320 w 75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040" y="102960"/>
            <a:ext cx="1099188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09120" y="6248520"/>
            <a:ext cx="2845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3480"/>
            <a:ext cx="2844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8D2C0-EB9A-419C-9056-373A0DEDF85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图片 69633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12192120" cy="68626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325080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5"/>
          </p:nvPr>
        </p:nvSpPr>
        <p:spPr>
          <a:xfrm>
            <a:off x="406080" y="6248520"/>
            <a:ext cx="2539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26"/>
          </p:nvPr>
        </p:nvSpPr>
        <p:spPr>
          <a:xfrm>
            <a:off x="4165200" y="6248520"/>
            <a:ext cx="386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27"/>
          </p:nvPr>
        </p:nvSpPr>
        <p:spPr>
          <a:xfrm>
            <a:off x="9347040" y="6248520"/>
            <a:ext cx="2540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E0CB-E462-4410-B323-5AFDDBBA40A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图片 6145" descr="292013229401"/>
          <p:cNvPicPr/>
          <p:nvPr/>
        </p:nvPicPr>
        <p:blipFill>
          <a:blip r:embed="rId1"/>
          <a:stretch/>
        </p:blipFill>
        <p:spPr>
          <a:xfrm>
            <a:off x="1128600" y="-3240"/>
            <a:ext cx="9720360" cy="6865920"/>
          </a:xfrm>
          <a:prstGeom prst="rect">
            <a:avLst/>
          </a:prstGeom>
          <a:ln w="0">
            <a:noFill/>
          </a:ln>
        </p:spPr>
      </p:pic>
      <p:pic>
        <p:nvPicPr>
          <p:cNvPr id="479" name="图片 2" descr="777c5540786836f7b3d12410d79a7040"/>
          <p:cNvPicPr/>
          <p:nvPr/>
        </p:nvPicPr>
        <p:blipFill>
          <a:blip r:embed="rId2"/>
          <a:stretch/>
        </p:blipFill>
        <p:spPr>
          <a:xfrm>
            <a:off x="-19080" y="-3240"/>
            <a:ext cx="12225240" cy="7023240"/>
          </a:xfrm>
          <a:prstGeom prst="rect">
            <a:avLst/>
          </a:prstGeom>
          <a:ln w="0">
            <a:noFill/>
          </a:ln>
        </p:spPr>
      </p:pic>
      <p:sp>
        <p:nvSpPr>
          <p:cNvPr id="480" name="文本框 6146"/>
          <p:cNvSpPr/>
          <p:nvPr/>
        </p:nvSpPr>
        <p:spPr>
          <a:xfrm>
            <a:off x="1563840" y="301680"/>
            <a:ext cx="897732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候课要求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保持安静！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坐姿端正 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准备好学习用具                                                                              （课本，导纲，练习本，红黑笔）</a:t>
            </a:r>
            <a:r>
              <a:rPr b="1" i="1" lang="zh-CN" sz="4800" spc="-1" strike="noStrike">
                <a:solidFill>
                  <a:srgbClr val="ff0000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矩形 4" descr=""/>
          <p:cNvPicPr/>
          <p:nvPr/>
        </p:nvPicPr>
        <p:blipFill>
          <a:blip r:embed="rId3"/>
          <a:stretch/>
        </p:blipFill>
        <p:spPr>
          <a:xfrm>
            <a:off x="669960" y="4054320"/>
            <a:ext cx="10090080" cy="1455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5"/>
          <p:cNvSpPr/>
          <p:nvPr/>
        </p:nvSpPr>
        <p:spPr>
          <a:xfrm>
            <a:off x="2889360" y="2395440"/>
            <a:ext cx="6210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前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古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不见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来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8"/>
          <p:cNvSpPr/>
          <p:nvPr/>
        </p:nvSpPr>
        <p:spPr>
          <a:xfrm>
            <a:off x="2476440" y="2079720"/>
            <a:ext cx="27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宋体"/>
              </a:rPr>
              <a:t>前：过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文本框 9"/>
          <p:cNvSpPr/>
          <p:nvPr/>
        </p:nvSpPr>
        <p:spPr>
          <a:xfrm>
            <a:off x="5238720" y="2141640"/>
            <a:ext cx="247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后：未来</a:t>
            </a:r>
            <a:r>
              <a:rPr b="1" lang="zh-CN" sz="2000" spc="-1" strike="noStrike">
                <a:solidFill>
                  <a:srgbClr val="0000ff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8"/>
          <p:cNvSpPr/>
          <p:nvPr/>
        </p:nvSpPr>
        <p:spPr>
          <a:xfrm>
            <a:off x="3898800" y="317664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古人：古代那些能够礼贤下士的圣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4" name="组合 27"/>
          <p:cNvGrpSpPr/>
          <p:nvPr/>
        </p:nvGrpSpPr>
        <p:grpSpPr>
          <a:xfrm>
            <a:off x="1657440" y="923040"/>
            <a:ext cx="2687040" cy="822240"/>
            <a:chOff x="1657440" y="923040"/>
            <a:chExt cx="2687040" cy="822240"/>
          </a:xfrm>
        </p:grpSpPr>
        <p:sp>
          <p:nvSpPr>
            <p:cNvPr id="525" name="矩形: 圆角 28"/>
            <p:cNvSpPr/>
            <p:nvPr/>
          </p:nvSpPr>
          <p:spPr>
            <a:xfrm rot="20527200">
              <a:off x="1725120" y="1087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矩形: 圆角 29"/>
            <p:cNvSpPr/>
            <p:nvPr/>
          </p:nvSpPr>
          <p:spPr>
            <a:xfrm rot="294000">
              <a:off x="2388600" y="11142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矩形: 圆角 30"/>
            <p:cNvSpPr/>
            <p:nvPr/>
          </p:nvSpPr>
          <p:spPr>
            <a:xfrm rot="1137000">
              <a:off x="3043080" y="100440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解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矩形: 圆角 31"/>
            <p:cNvSpPr/>
            <p:nvPr/>
          </p:nvSpPr>
          <p:spPr>
            <a:xfrm rot="20889600">
              <a:off x="3705480" y="115524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ff"/>
            </a:solidFill>
            <a:ln w="9360">
              <a:solidFill>
                <a:srgbClr val="66ccff">
                  <a:alpha val="19000"/>
                </a:srgbClr>
              </a:solidFill>
              <a:miter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TextBox 2"/>
          <p:cNvSpPr/>
          <p:nvPr/>
        </p:nvSpPr>
        <p:spPr>
          <a:xfrm>
            <a:off x="5388120" y="879480"/>
            <a:ext cx="140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登幽州台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陈子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"/>
          <p:cNvSpPr/>
          <p:nvPr/>
        </p:nvSpPr>
        <p:spPr>
          <a:xfrm>
            <a:off x="3371760" y="4560840"/>
            <a:ext cx="7650360" cy="825120"/>
          </a:xfrm>
          <a:prstGeom prst="rect">
            <a:avLst/>
          </a:prstGeom>
          <a:gradFill rotWithShape="0">
            <a:gsLst>
              <a:gs pos="0">
                <a:srgbClr val="ecccff"/>
              </a:gs>
              <a:gs pos="100000">
                <a:srgbClr val="f9efff"/>
              </a:gs>
            </a:gsLst>
            <a:lin ang="16200000"/>
          </a:gradFill>
          <a:ln w="9360">
            <a:solidFill>
              <a:srgbClr val="d9b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诗意：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往前不见古代招贤的圣君，向后不见后世求才的明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文本框 9"/>
          <p:cNvSpPr/>
          <p:nvPr/>
        </p:nvSpPr>
        <p:spPr>
          <a:xfrm>
            <a:off x="7988400" y="23652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来者：后世那些重视人才的贤明君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5"/>
          <p:cNvSpPr/>
          <p:nvPr/>
        </p:nvSpPr>
        <p:spPr>
          <a:xfrm>
            <a:off x="2889360" y="1963800"/>
            <a:ext cx="621036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地之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悠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独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怆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文本框 8"/>
          <p:cNvSpPr/>
          <p:nvPr/>
        </p:nvSpPr>
        <p:spPr>
          <a:xfrm>
            <a:off x="2279520" y="1773360"/>
            <a:ext cx="20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念：想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文本框 8"/>
          <p:cNvSpPr/>
          <p:nvPr/>
        </p:nvSpPr>
        <p:spPr>
          <a:xfrm>
            <a:off x="4443480" y="1109520"/>
            <a:ext cx="28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悠悠：形容时间的久远和空间的广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文本框 8"/>
          <p:cNvSpPr/>
          <p:nvPr/>
        </p:nvSpPr>
        <p:spPr>
          <a:xfrm>
            <a:off x="5610240" y="2836800"/>
            <a:ext cx="333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怆然：悲伤的样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8"/>
          <p:cNvSpPr/>
          <p:nvPr/>
        </p:nvSpPr>
        <p:spPr>
          <a:xfrm>
            <a:off x="7291440" y="1943280"/>
            <a:ext cx="25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涕：指眼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Box 6"/>
          <p:cNvSpPr/>
          <p:nvPr/>
        </p:nvSpPr>
        <p:spPr>
          <a:xfrm>
            <a:off x="2954160" y="4125960"/>
            <a:ext cx="8018640" cy="1556280"/>
          </a:xfrm>
          <a:prstGeom prst="rect">
            <a:avLst/>
          </a:prstGeom>
          <a:gradFill rotWithShape="0">
            <a:gsLst>
              <a:gs pos="0">
                <a:srgbClr val="ecccff"/>
              </a:gs>
              <a:gs pos="100000">
                <a:srgbClr val="f9efff"/>
              </a:gs>
            </a:gsLst>
            <a:lin ang="16200000"/>
          </a:gradFill>
          <a:ln w="9360">
            <a:solidFill>
              <a:srgbClr val="d9bff7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宋体"/>
              </a:rPr>
              <a:t>诗意：</a:t>
            </a: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只有那苍茫天地悠悠无限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宋体"/>
              </a:rPr>
              <a:t>止不住满怀悲伤热泪纷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0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1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2" name="图片 36865" descr="ssh1-10a"/>
          <p:cNvPicPr/>
          <p:nvPr/>
        </p:nvPicPr>
        <p:blipFill>
          <a:blip r:embed="rId3"/>
          <a:stretch/>
        </p:blipFill>
        <p:spPr>
          <a:xfrm>
            <a:off x="-171360" y="15840"/>
            <a:ext cx="12453840" cy="6865920"/>
          </a:xfrm>
          <a:prstGeom prst="rect">
            <a:avLst/>
          </a:prstGeom>
          <a:ln w="0">
            <a:noFill/>
          </a:ln>
        </p:spPr>
      </p:pic>
      <p:sp>
        <p:nvSpPr>
          <p:cNvPr id="543" name="文本框 99"/>
          <p:cNvSpPr/>
          <p:nvPr/>
        </p:nvSpPr>
        <p:spPr>
          <a:xfrm>
            <a:off x="4535640" y="15840"/>
            <a:ext cx="7981920" cy="3445560"/>
          </a:xfrm>
          <a:prstGeom prst="rect">
            <a:avLst/>
          </a:prstGeom>
          <a:solidFill>
            <a:srgbClr val="c58b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译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追忆历史，往前不见古代招贤的圣君，向往未来，不见后世求才的明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（登楼远眺）想到宇宙邈远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[miǎo yuǎn]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、广阔无边（我深感人生短暂与人的渺小），独自凭吊，（我）悲伤难过，潸然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[shān rán]</a:t>
            </a:r>
            <a:r>
              <a:rPr b="1" lang="zh-CN" sz="4400" spc="-1" strike="noStrike">
                <a:solidFill>
                  <a:srgbClr val="0f0f0f"/>
                </a:solidFill>
                <a:latin typeface="宋体"/>
              </a:rPr>
              <a:t>泪下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48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9" name="文本框 99"/>
          <p:cNvSpPr/>
          <p:nvPr/>
        </p:nvSpPr>
        <p:spPr>
          <a:xfrm>
            <a:off x="1189080" y="650880"/>
            <a:ext cx="107744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【自学指导</a:t>
            </a:r>
            <a:r>
              <a:rPr b="0" lang="en-US" sz="4400" spc="-1" strike="noStrike">
                <a:solidFill>
                  <a:srgbClr val="3333ff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】</a:t>
            </a:r>
            <a:r>
              <a:rPr b="0" lang="zh-CN" sz="4400" spc="-1" strike="noStrike">
                <a:solidFill>
                  <a:srgbClr val="3333ff"/>
                </a:solidFill>
                <a:latin typeface="宋体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请同学们自读诗歌，把握诗歌主旨，  体会本诗阔大苍凉的意境美，领会诗人怀才不遇，寂寞悲凉的心情，完成下列各题，</a:t>
            </a: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分钟后展示自学成果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999880" y="-36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800" spc="-1" strike="noStrike">
                <a:solidFill>
                  <a:srgbClr val="8c0039"/>
                </a:solidFill>
                <a:latin typeface="Arial"/>
              </a:rPr>
              <a:t>小组讨论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2927160" y="1052640"/>
            <a:ext cx="9264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诗歌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句从什么角度表现了诗人的孤独，为下文抒发怎样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独怆然而涕下”中“独”字有何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这首诗写出了一个怎样的诗人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本诗的主旨是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6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7" name="文本框 99"/>
          <p:cNvSpPr/>
          <p:nvPr/>
        </p:nvSpPr>
        <p:spPr>
          <a:xfrm>
            <a:off x="1378080" y="380880"/>
            <a:ext cx="1040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诗歌第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句从什么角度表现了诗人的孤独，为下文抒发怎样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文本框 4"/>
          <p:cNvSpPr/>
          <p:nvPr/>
        </p:nvSpPr>
        <p:spPr>
          <a:xfrm>
            <a:off x="746280" y="2193840"/>
            <a:ext cx="1027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从</a:t>
            </a:r>
            <a:r>
              <a:rPr b="1" lang="zh-CN" sz="4400" spc="-1" strike="noStrike">
                <a:solidFill>
                  <a:srgbClr val="3333ff"/>
                </a:solidFill>
                <a:latin typeface="宋体"/>
              </a:rPr>
              <a:t>时间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角度表现了诗人的孤独，为下文抒发悲怆的心情做铺垫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63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4" name="文本框 99"/>
          <p:cNvSpPr/>
          <p:nvPr/>
        </p:nvSpPr>
        <p:spPr>
          <a:xfrm>
            <a:off x="1305000" y="56340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2.“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独怆然而涕下”中“独”字有何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文本框 4"/>
          <p:cNvSpPr/>
          <p:nvPr/>
        </p:nvSpPr>
        <p:spPr>
          <a:xfrm>
            <a:off x="1305000" y="1967040"/>
            <a:ext cx="1048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独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字渲染了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诗人心中不可名状的孤独悲凉之感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0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1" name="文本框 99"/>
          <p:cNvSpPr/>
          <p:nvPr/>
        </p:nvSpPr>
        <p:spPr>
          <a:xfrm>
            <a:off x="1574640" y="487440"/>
            <a:ext cx="1021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这首诗写出了一个怎样的诗人形象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文本框 4"/>
          <p:cNvSpPr/>
          <p:nvPr/>
        </p:nvSpPr>
        <p:spPr>
          <a:xfrm>
            <a:off x="1901880" y="2176560"/>
            <a:ext cx="916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这首诗写出了一个</a:t>
            </a:r>
            <a:r>
              <a:rPr b="1" lang="zh-CN" sz="4400" spc="-1" strike="noStrike">
                <a:solidFill>
                  <a:srgbClr val="0070c0"/>
                </a:solidFill>
                <a:latin typeface="Arial"/>
              </a:rPr>
              <a:t>怀才不遇的孤独无奈、悲愤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诗人形象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6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7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文本框 99"/>
          <p:cNvSpPr/>
          <p:nvPr/>
        </p:nvSpPr>
        <p:spPr>
          <a:xfrm>
            <a:off x="2290680" y="453960"/>
            <a:ext cx="882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本诗的主旨是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4"/>
          <p:cNvSpPr/>
          <p:nvPr/>
        </p:nvSpPr>
        <p:spPr>
          <a:xfrm>
            <a:off x="1108080" y="1665360"/>
            <a:ext cx="1024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诗人登楼远眺，以北方的苍茫广阔的原野为背景，俯仰古今，视通万里，表达了诗人怀才不遇、壮志难酬、时不我待、孤独悲伤无奈的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深刻地揭示了封建社会中正直、多才而遭遇困厄的知识分子遭受压抑的境遇，表达了他们在理想破灭时孤寂郁闷的心情，具有深刻典型的社会意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 txBox="1"/>
          <p:nvPr/>
        </p:nvSpPr>
        <p:spPr>
          <a:xfrm>
            <a:off x="2133720" y="2187720"/>
            <a:ext cx="8075520" cy="3465360"/>
          </a:xfrm>
          <a:prstGeom prst="rect">
            <a:avLst/>
          </a:prstGeom>
          <a:noFill/>
          <a:ln w="9360">
            <a:solidFill>
              <a:srgbClr val="0057d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陈子昂压卷之作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创造出了空旷苍茫、慷慨悲凉的意境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57d6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表达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诗人怀才不遇、壮志难酬的悲愤之情和孤独之感</a:t>
            </a:r>
            <a:r>
              <a:rPr b="1" lang="zh-CN" sz="3200" spc="-1" strike="noStrike">
                <a:solidFill>
                  <a:srgbClr val="0057d6"/>
                </a:solidFill>
                <a:latin typeface="宋体"/>
              </a:rPr>
              <a:t> 。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059280" y="191880"/>
            <a:ext cx="5781600" cy="10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登幽州台歌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582" name="图片 82947" descr="j0115856"/>
          <p:cNvPicPr/>
          <p:nvPr/>
        </p:nvPicPr>
        <p:blipFill>
          <a:blip r:embed="rId1"/>
          <a:stretch/>
        </p:blipFill>
        <p:spPr>
          <a:xfrm>
            <a:off x="1523880" y="167796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2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7" dur="2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0" dur="20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480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华文新魏"/>
              </a:rPr>
              <a:t>登幽州台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311880" y="3212640"/>
            <a:ext cx="2232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陈子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6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8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文本框 99"/>
          <p:cNvSpPr/>
          <p:nvPr/>
        </p:nvSpPr>
        <p:spPr>
          <a:xfrm>
            <a:off x="1863720" y="380880"/>
            <a:ext cx="99219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ff"/>
                </a:solidFill>
                <a:latin typeface="宋体"/>
              </a:rPr>
              <a:t>【知识拓展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请你写出几句关于怀才不遇的诗句。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文本框 4"/>
          <p:cNvSpPr/>
          <p:nvPr/>
        </p:nvSpPr>
        <p:spPr>
          <a:xfrm>
            <a:off x="-19080" y="2195640"/>
            <a:ext cx="11925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可怜夜半虚前席，不问苍生问鬼神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商隐《贾生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天生我材必有用，千金散尽还复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李白《将进酒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出师未捷身先死，长使英雄泪满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杜甫《蜀相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7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一枝花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840" y="-60480"/>
            <a:ext cx="12160440" cy="68929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4"/>
          <p:cNvSpPr/>
          <p:nvPr/>
        </p:nvSpPr>
        <p:spPr>
          <a:xfrm>
            <a:off x="1908000" y="1487520"/>
            <a:ext cx="86601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新宋体"/>
              </a:rPr>
              <a:t>桌面清空，坐姿端正，规范书写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不讨论，不翻书，独立完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、时间：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分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9448920" y="6248520"/>
            <a:ext cx="9144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文本框 1"/>
          <p:cNvSpPr/>
          <p:nvPr/>
        </p:nvSpPr>
        <p:spPr>
          <a:xfrm>
            <a:off x="3116160" y="165240"/>
            <a:ext cx="59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</a:rPr>
              <a:t>当堂训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98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9" name="文本框 4"/>
          <p:cNvSpPr/>
          <p:nvPr/>
        </p:nvSpPr>
        <p:spPr>
          <a:xfrm>
            <a:off x="1612800" y="716040"/>
            <a:ext cx="1007136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宋体"/>
              </a:rPr>
              <a:t>答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我登上幽州台眺望远方，思绪万千，看这茫茫宇宙，虽然无边无际，但没有一个能赏识人才的君主，不禁感到孤单寂寞，悲从中来而独自流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D   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解析：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涕</a:t>
            </a: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古时指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 txBox="1"/>
          <p:nvPr/>
        </p:nvSpPr>
        <p:spPr>
          <a:xfrm>
            <a:off x="609480" y="274680"/>
            <a:ext cx="109728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答案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sz="4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2" descr="6"/>
          <p:cNvPicPr/>
          <p:nvPr/>
        </p:nvPicPr>
        <p:blipFill>
          <a:blip r:embed="rId1"/>
          <a:stretch/>
        </p:blipFill>
        <p:spPr>
          <a:xfrm>
            <a:off x="-302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2" name="文本框 2"/>
          <p:cNvSpPr/>
          <p:nvPr/>
        </p:nvSpPr>
        <p:spPr>
          <a:xfrm>
            <a:off x="1981080" y="2416320"/>
            <a:ext cx="789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</a:rPr>
              <a:t>最佳激情小组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3" name="对象 32769"/>
          <p:cNvGraphicFramePr/>
          <p:nvPr/>
        </p:nvGraphicFramePr>
        <p:xfrm>
          <a:off x="1523880" y="44280"/>
          <a:ext cx="9144000" cy="6813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04" name="对象 3276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428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5" name="文本框 32772"/>
          <p:cNvSpPr/>
          <p:nvPr/>
        </p:nvSpPr>
        <p:spPr>
          <a:xfrm>
            <a:off x="2908440" y="189000"/>
            <a:ext cx="325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艺术特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文本框 32773"/>
          <p:cNvSpPr/>
          <p:nvPr/>
        </p:nvSpPr>
        <p:spPr>
          <a:xfrm>
            <a:off x="152388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一二句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时间：俯仰古今，时间绵长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前－－后；古人－－来者。两用“不见”相连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表现自己的孤独寂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三四句：</a:t>
            </a:r>
            <a:r>
              <a:rPr b="1" lang="zh-CN" sz="2600" spc="-1" strike="noStrike">
                <a:solidFill>
                  <a:srgbClr val="ff0000"/>
                </a:solidFill>
                <a:latin typeface="Arial"/>
                <a:ea typeface="华文新魏"/>
              </a:rPr>
              <a:t>空间：宇宙寥阔与绵长，个人却渺小与短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，更何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华文新魏"/>
              </a:rPr>
              <a:t>　　　　生不逢时，于是伤感无限，涕泪交横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文本框 32774"/>
          <p:cNvSpPr/>
          <p:nvPr/>
        </p:nvSpPr>
        <p:spPr>
          <a:xfrm>
            <a:off x="3671640" y="1052640"/>
            <a:ext cx="4894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直抒胸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破空而来，感情的潮水澎湃而出，震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人心，具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苍凉悲壮的阳刚之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文本框 32775"/>
          <p:cNvSpPr/>
          <p:nvPr/>
        </p:nvSpPr>
        <p:spPr>
          <a:xfrm>
            <a:off x="1631880" y="5032440"/>
            <a:ext cx="896472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、深受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楚辞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影响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１、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远游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：惟天地之无穷兮，哀人生之长勤。往者余弗　　　　及兮，来者吾不闻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２、采取了长短参错的楚辞体句法。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文本框 32776"/>
          <p:cNvSpPr/>
          <p:nvPr/>
        </p:nvSpPr>
        <p:spPr>
          <a:xfrm>
            <a:off x="3518640" y="4384800"/>
            <a:ext cx="68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二、社会意识、宇宙意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6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6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6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6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内容占位符 35841"/>
          <p:cNvGraphicFramePr/>
          <p:nvPr/>
        </p:nvGraphicFramePr>
        <p:xfrm>
          <a:off x="15840" y="15840"/>
          <a:ext cx="1216044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87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0" y="15840"/>
                    <a:ext cx="1216044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文本框 3"/>
          <p:cNvSpPr/>
          <p:nvPr/>
        </p:nvSpPr>
        <p:spPr>
          <a:xfrm>
            <a:off x="609480" y="1096920"/>
            <a:ext cx="109728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6000" spc="-1" strike="noStrike">
                <a:solidFill>
                  <a:srgbClr val="0000f1"/>
                </a:solidFill>
                <a:latin typeface="Arial"/>
              </a:rPr>
              <a:t>【学习目标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了解有关陈子昂的文学常识，朗读并背诵诗歌。（重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把握诗歌主旨，体会本诗阔大苍凉的意境美。（难点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sz="4400" spc="-1" strike="noStrike">
                <a:solidFill>
                  <a:srgbClr val="000000"/>
                </a:solidFill>
                <a:latin typeface="Arial"/>
              </a:rPr>
              <a:t>领会诗人怀才不遇，寂寞悲凉的心情，树立正确的人生观。（了解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609480" y="1599840"/>
            <a:ext cx="10972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1" name="内容占位符 35841"/>
          <p:cNvGraphicFramePr/>
          <p:nvPr/>
        </p:nvGraphicFramePr>
        <p:xfrm>
          <a:off x="2556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2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文本框 99"/>
          <p:cNvSpPr/>
          <p:nvPr/>
        </p:nvSpPr>
        <p:spPr>
          <a:xfrm>
            <a:off x="892080" y="1006560"/>
            <a:ext cx="1104120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【自学指导</a:t>
            </a: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1</a:t>
            </a:r>
            <a:r>
              <a:rPr b="0" sz="6000" spc="-1" strike="noStrike">
                <a:solidFill>
                  <a:srgbClr val="0000f1"/>
                </a:solidFill>
                <a:latin typeface="宋体"/>
                <a:ea typeface="黑体"/>
              </a:rPr>
              <a:t>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请同学们朗读全诗，借助课下注释和工具书，了解有关陈子昂的文学常识，朗读并背诵诗歌，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0" sz="4400" spc="-1" strike="noStrike">
                <a:solidFill>
                  <a:srgbClr val="000000"/>
                </a:solidFill>
                <a:latin typeface="宋体"/>
                <a:ea typeface="宋体"/>
              </a:rPr>
              <a:t>分钟后展示自学成果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4" name="对象 28675"/>
          <p:cNvGraphicFramePr/>
          <p:nvPr/>
        </p:nvGraphicFramePr>
        <p:xfrm>
          <a:off x="-4680" y="-20520"/>
          <a:ext cx="12199680" cy="68976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95" name="对象 2867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0" y="-20520"/>
                    <a:ext cx="12199680" cy="68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6" name="矩形 28676"/>
          <p:cNvSpPr/>
          <p:nvPr/>
        </p:nvSpPr>
        <p:spPr>
          <a:xfrm>
            <a:off x="4727520" y="-171360"/>
            <a:ext cx="510696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000" spc="-1" strike="noStrike">
                <a:solidFill>
                  <a:srgbClr val="690ed2"/>
                </a:solidFill>
                <a:latin typeface="Arial"/>
              </a:rPr>
              <a:t>作者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矩形 28677"/>
          <p:cNvSpPr/>
          <p:nvPr/>
        </p:nvSpPr>
        <p:spPr>
          <a:xfrm>
            <a:off x="5087880" y="620640"/>
            <a:ext cx="71042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陈子昂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661-702)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字伯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射洪人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唐代文学家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是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唐诗革新的先驱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诗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代表作为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感遇</a:t>
            </a:r>
            <a:r>
              <a:rPr b="1" lang="en-US" sz="3600" spc="-1" strike="noStrike">
                <a:solidFill>
                  <a:srgbClr val="3333ff"/>
                </a:solidFill>
                <a:latin typeface="Arial"/>
              </a:rPr>
              <a:t>》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38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首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旨在抨击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pēng jī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）时弊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抒写情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他是一个具有政治见解和政治才能的文人。他敢言，对武后朝的不少弊政，常常提出批评意见，不为武则天所重视，并曾一度因逆党株连下狱，他的政治抱负不能实现，反而受到打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使他心情非常苦闷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" descr="http://p8.qhmsg.com/t01491ee5e361e875e5.jpg"/>
          <p:cNvPicPr/>
          <p:nvPr/>
        </p:nvPicPr>
        <p:blipFill>
          <a:blip r:embed="rId3"/>
          <a:stretch/>
        </p:blipFill>
        <p:spPr>
          <a:xfrm>
            <a:off x="1415880" y="0"/>
            <a:ext cx="4032360" cy="532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9" name="内容占位符 29697"/>
          <p:cNvGraphicFramePr/>
          <p:nvPr/>
        </p:nvGraphicFramePr>
        <p:xfrm>
          <a:off x="9360" y="22320"/>
          <a:ext cx="12173040" cy="6813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0" name="内容占位符 296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60" y="22320"/>
                    <a:ext cx="12173040" cy="68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文本框 29701"/>
          <p:cNvSpPr/>
          <p:nvPr/>
        </p:nvSpPr>
        <p:spPr>
          <a:xfrm>
            <a:off x="839880" y="981000"/>
            <a:ext cx="1055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武则天万岁通天元年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696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）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契丹李尽忠、孙万荣等攻陷营州。武则天委派武攸宜率军征讨，陈子昂在武攸宜幕府担任参谋，随同出征。武为人轻率，少谋略。次年兵败，情况紧急，陈子昂请求遣万人作前驱以击敌，武不允。稍后，陈子昂又向武进言，不听，反把他降为军曹。诗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接连受到挫折，眼看报国宏愿成为泡影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因此登上蓟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北楼（即幽州台，遗址在今北京市）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慷慨悲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写下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登幽州台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及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蓟丘览古赠卢居士藏用七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等诗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文本框 29702"/>
          <p:cNvSpPr/>
          <p:nvPr/>
        </p:nvSpPr>
        <p:spPr>
          <a:xfrm>
            <a:off x="1873080" y="90360"/>
            <a:ext cx="546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ff"/>
                </a:solidFill>
                <a:latin typeface="Arial"/>
              </a:rPr>
              <a:t>写作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3" name="内容占位符 35841"/>
          <p:cNvGraphicFramePr/>
          <p:nvPr/>
        </p:nvGraphicFramePr>
        <p:xfrm>
          <a:off x="-1908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04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矩形 35842"/>
          <p:cNvSpPr/>
          <p:nvPr/>
        </p:nvSpPr>
        <p:spPr>
          <a:xfrm>
            <a:off x="4727520" y="476280"/>
            <a:ext cx="280836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1115640" y="836640"/>
            <a:ext cx="11076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6000" spc="-1" strike="noStrike">
                <a:solidFill>
                  <a:srgbClr val="690ed2"/>
                </a:solidFill>
                <a:latin typeface="宋体"/>
              </a:rPr>
              <a:t>解题</a:t>
            </a:r>
            <a:r>
              <a:rPr b="1" sz="6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sz="4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sz="4400" spc="-1" strike="noStrike">
                <a:solidFill>
                  <a:srgbClr val="000000"/>
                </a:solidFill>
                <a:latin typeface="宋体"/>
              </a:rPr>
              <a:t>幽州台”，即蓟北楼，是战国时燕昭王为招纳天下贤士所建，故址在今北京西南。“歌”，古代的一种诗歌载体。题目点明了此时是诗人在登临幽州台时所作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4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3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3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250800" y="2282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6171840" y="1825200"/>
            <a:ext cx="5181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内容占位符 35841"/>
          <p:cNvGraphicFramePr/>
          <p:nvPr/>
        </p:nvGraphicFramePr>
        <p:xfrm>
          <a:off x="-55440" y="15840"/>
          <a:ext cx="12303000" cy="6826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1" name="内容占位符 358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5440" y="15840"/>
                    <a:ext cx="12303000" cy="682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2" name="文本框 99"/>
          <p:cNvSpPr/>
          <p:nvPr/>
        </p:nvSpPr>
        <p:spPr>
          <a:xfrm>
            <a:off x="1147680" y="770040"/>
            <a:ext cx="102060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6000" spc="-1" strike="noStrike">
                <a:solidFill>
                  <a:srgbClr val="690ed2"/>
                </a:solidFill>
                <a:latin typeface="宋体"/>
                <a:ea typeface="宋体"/>
              </a:rPr>
              <a:t>字音字形及释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（         ）</a:t>
            </a:r>
            <a:r>
              <a:rPr b="1" sz="4000" spc="-1" strike="noStrike">
                <a:solidFill>
                  <a:srgbClr val="3333ff"/>
                </a:solidFill>
                <a:latin typeface="宋体"/>
                <a:ea typeface="宋体"/>
              </a:rPr>
              <a:t>怆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然： </a:t>
            </a:r>
            <a:r>
              <a:rPr b="0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（  </a:t>
            </a:r>
            <a:r>
              <a:rPr b="1" sz="4000" spc="-1" strike="noStrike">
                <a:solidFill>
                  <a:srgbClr val="ff0000"/>
                </a:solidFill>
                <a:latin typeface="宋体"/>
                <a:ea typeface="宋体"/>
              </a:rPr>
              <a:t>tì 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sz="4000" spc="-1" strike="noStrike">
                <a:solidFill>
                  <a:srgbClr val="000000"/>
                </a:solidFill>
                <a:latin typeface="宋体"/>
                <a:ea typeface="宋体"/>
              </a:rPr>
              <a:t>）  下：</a:t>
            </a:r>
            <a:r>
              <a:rPr b="0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                 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4"/>
          <p:cNvSpPr/>
          <p:nvPr/>
        </p:nvSpPr>
        <p:spPr>
          <a:xfrm>
            <a:off x="1851120" y="2519280"/>
            <a:ext cx="230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宋体"/>
              </a:rPr>
              <a:t>chuà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5"/>
          <p:cNvSpPr/>
          <p:nvPr/>
        </p:nvSpPr>
        <p:spPr>
          <a:xfrm>
            <a:off x="4224240" y="3860640"/>
            <a:ext cx="11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"/>
          <p:cNvSpPr/>
          <p:nvPr/>
        </p:nvSpPr>
        <p:spPr>
          <a:xfrm>
            <a:off x="6019920" y="2616120"/>
            <a:ext cx="421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悲伤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7"/>
          <p:cNvSpPr/>
          <p:nvPr/>
        </p:nvSpPr>
        <p:spPr>
          <a:xfrm>
            <a:off x="5232240" y="3860640"/>
            <a:ext cx="387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5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图片 36865" descr="ssh1-10a"/>
          <p:cNvPicPr/>
          <p:nvPr/>
        </p:nvPicPr>
        <p:blipFill>
          <a:blip r:embed="rId1"/>
          <a:stretch/>
        </p:blipFill>
        <p:spPr>
          <a:xfrm>
            <a:off x="-3240" y="3240"/>
            <a:ext cx="12211200" cy="6854760"/>
          </a:xfrm>
          <a:prstGeom prst="rect">
            <a:avLst/>
          </a:prstGeom>
          <a:ln w="0">
            <a:noFill/>
          </a:ln>
        </p:spPr>
      </p:pic>
      <p:sp>
        <p:nvSpPr>
          <p:cNvPr id="518" name="矩形 36866"/>
          <p:cNvSpPr/>
          <p:nvPr/>
        </p:nvSpPr>
        <p:spPr>
          <a:xfrm>
            <a:off x="4511520" y="549360"/>
            <a:ext cx="3240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朗读节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矩形 36867"/>
          <p:cNvSpPr/>
          <p:nvPr/>
        </p:nvSpPr>
        <p:spPr>
          <a:xfrm>
            <a:off x="5035680" y="1687680"/>
            <a:ext cx="6400800" cy="38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前／不见／古人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后／不见／来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念／天地／之／悠悠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独／怆然／而／涕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d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8T12:04:03Z</dcterms:created>
  <dc:creator/>
  <dc:description/>
  <cp:keywords/>
  <dc:language>en-US</dc:language>
  <cp:lastModifiedBy>Administrator</cp:lastModifiedBy>
  <dcterms:modified xsi:type="dcterms:W3CDTF">2018-05-16T13:13:38Z</dcterms:modified>
  <cp:revision>70</cp:revision>
  <dc:subject/>
  <dc:title>登幽州台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